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DCB3-9730-47BD-876C-1A28F7E0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DB3B-4A53-48B1-A6C9-C05E130E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5FA6-9035-43D7-A03B-A130B828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B6E-52FA-4426-846B-4DFDCF55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430C-C491-4A24-ADE2-84C8698F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7DDA-02BE-4DF3-AE37-013B9573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0783-E6F4-46EA-9AB9-312E431C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5F38-BA23-4454-8A09-0C34790E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15AA-3DE2-423D-9B3C-A32F72C7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50E9-6BD2-44BB-BA5B-AA994BF3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B786-2E94-4B54-A1FB-4DE4163B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7607-213E-44D6-B705-7112FFDD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0B99-FAF9-4BEE-95A4-B7645D41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CDF4-9C17-4030-83E8-F577961A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2921-4313-4A83-A843-6FA6E47B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6B26-4BF6-4981-8ECC-C099B02A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4511-1793-40E6-BA65-02976249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5E588-25B6-4667-9381-6B98DAF0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28F0F-DAAB-4BB1-9BC2-6D363427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FD049-B736-4919-AB5E-4A7CC636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4F865-DEE1-4CB5-AAED-D1B501A1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4F929-FB35-4778-B4B0-9B268C1A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74AB-C603-49D3-8033-47647489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0D786-B8FC-439B-87AC-861173AC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92485-8704-48E2-AB50-37C5A25F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75F31-F256-4FBB-8EE9-8C77A4FB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7640C-4CA0-4C76-AC88-6CA0A814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3BE01-08DA-4AF1-8080-F654BB79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48F07-29B9-45FB-982B-91EB0E25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FD769-6B21-4E95-A1FF-78EA52A0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D0E17-5C4C-46F7-B4A3-BDDF9D77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929D9-2BB2-45E8-AFC7-6F60DA0C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77C8B-F2BB-4226-AF95-FF8F5646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F5F3-EE28-4561-B9B7-FE5DAEC3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A1C68-6D0D-46B5-B595-CDBB292E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5C6DB-48BF-46B2-A104-9C1080FC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5956D-5CD0-449D-BE16-7A942E39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7C1F9-242E-4410-A62E-65D52E02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3A76A-05EE-42DB-A78A-D92DF504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A5D35-A318-4A2C-94F8-3F137F20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6AB8E-4769-44E5-B367-7E9E8F23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7D321-9F99-44FC-AC95-FA7A6A69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20EF5-A4F7-49DF-9152-D26DF96C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EDC1-AFDE-41FB-BE85-815CAA7C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DB04-F286-436F-8B46-98985AE8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6655-2AFE-445E-8CD3-439A1FD3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CB1B-9CF7-4753-A6BB-A6AD8EC9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6675-B566-49DB-95CA-49C2E449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0C963-618F-4567-A239-D49A22863B47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 flipH="1">
            <a:off x="8227800" y="7920"/>
            <a:ext cx="3809880" cy="3809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Straight Connector 16"/>
          <p:cNvSpPr/>
          <p:nvPr/>
        </p:nvSpPr>
        <p:spPr>
          <a:xfrm flipH="1">
            <a:off x="6108480" y="92160"/>
            <a:ext cx="6080040" cy="60800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Straight Connector 18"/>
          <p:cNvSpPr/>
          <p:nvPr/>
        </p:nvSpPr>
        <p:spPr>
          <a:xfrm flipH="1">
            <a:off x="7236000" y="228600"/>
            <a:ext cx="4952880" cy="4952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Straight Connector 20"/>
          <p:cNvSpPr/>
          <p:nvPr/>
        </p:nvSpPr>
        <p:spPr>
          <a:xfrm flipH="1">
            <a:off x="7335360" y="31680"/>
            <a:ext cx="4853160" cy="485316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Straight Connector 22"/>
          <p:cNvSpPr/>
          <p:nvPr/>
        </p:nvSpPr>
        <p:spPr>
          <a:xfrm flipH="1">
            <a:off x="7845120" y="609480"/>
            <a:ext cx="4343400" cy="434340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ADD930-EF40-4BC4-8532-84AE0188E5B2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94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5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99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F4B122-B2B3-4230-A714-09211AE93D8D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43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8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43A87-D9A2-4A38-8DFD-0E67DDD13DDB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7" descr=""/>
          <p:cNvPicPr/>
          <p:nvPr/>
        </p:nvPicPr>
        <p:blipFill>
          <a:blip r:embed="rId1"/>
          <a:stretch/>
        </p:blipFill>
        <p:spPr>
          <a:xfrm>
            <a:off x="946080" y="520560"/>
            <a:ext cx="2911680" cy="5889600"/>
          </a:xfrm>
          <a:prstGeom prst="rect">
            <a:avLst/>
          </a:prstGeom>
          <a:ln w="0">
            <a:noFill/>
          </a:ln>
        </p:spPr>
      </p:pic>
      <p:sp>
        <p:nvSpPr>
          <p:cNvPr id="192" name="TextBox 8"/>
          <p:cNvSpPr/>
          <p:nvPr/>
        </p:nvSpPr>
        <p:spPr>
          <a:xfrm>
            <a:off x="4705200" y="789120"/>
            <a:ext cx="6783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entury Gothic"/>
              </a:rPr>
              <a:t>Мастерская Самсона Суханова.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3" name="Picture 2" descr="Vasily Tropinin 19.jpg"/>
          <p:cNvPicPr/>
          <p:nvPr/>
        </p:nvPicPr>
        <p:blipFill>
          <a:blip r:embed="rId2"/>
          <a:stretch/>
        </p:blipFill>
        <p:spPr>
          <a:xfrm>
            <a:off x="4378320" y="2795760"/>
            <a:ext cx="2610000" cy="3286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Saint Isaac's Cathedral in SPB.jpeg"/>
          <p:cNvPicPr/>
          <p:nvPr/>
        </p:nvPicPr>
        <p:blipFill>
          <a:blip r:embed="rId3"/>
          <a:stretch/>
        </p:blipFill>
        <p:spPr>
          <a:xfrm>
            <a:off x="8096400" y="2795760"/>
            <a:ext cx="2609640" cy="1723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https://upload.wikimedia.org/wikipedia/commons/thumb/e/e5/%D0%A8%D0%B0%D1%80_%D0%A1%D1%82%D1%80%D0%B5%D0%BB%D0%BA%D0%B8_%D0%92.%D0%9E.jpg/175px-%D0%A8%D0%B0%D1%80_%D0%A1%D1%82%D1%80%D0%B5%D0%BB%D0%BA%D0%B8_%D0%92.%D0%9E.jpg"/>
          <p:cNvPicPr/>
          <p:nvPr/>
        </p:nvPicPr>
        <p:blipFill>
          <a:blip r:embed="rId4"/>
          <a:stretch/>
        </p:blipFill>
        <p:spPr>
          <a:xfrm>
            <a:off x="8096400" y="4668840"/>
            <a:ext cx="26096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3"/>
          <p:cNvSpPr/>
          <p:nvPr/>
        </p:nvSpPr>
        <p:spPr>
          <a:xfrm>
            <a:off x="307800" y="307800"/>
            <a:ext cx="6874200" cy="1554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Прямоугольник 1"/>
          <p:cNvSpPr/>
          <p:nvPr/>
        </p:nvSpPr>
        <p:spPr>
          <a:xfrm>
            <a:off x="561960" y="495360"/>
            <a:ext cx="63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ча 1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ся углубление для основания колонны радиус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см. Число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3. Какой длины и площади будет основание колонны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9" name="Picture 4" descr="Колонна ионическая из натурального камня — купить декор для отделки фасада"/>
          <p:cNvPicPr/>
          <p:nvPr/>
        </p:nvPicPr>
        <p:blipFill>
          <a:blip r:embed="rId1"/>
          <a:stretch/>
        </p:blipFill>
        <p:spPr>
          <a:xfrm>
            <a:off x="7404120" y="789120"/>
            <a:ext cx="2784600" cy="278604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4"/>
          <p:cNvSpPr/>
          <p:nvPr/>
        </p:nvSpPr>
        <p:spPr>
          <a:xfrm>
            <a:off x="647640" y="2443320"/>
            <a:ext cx="6443640" cy="3849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Решение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С = 2</a:t>
            </a:r>
            <a:r>
              <a:rPr b="0" lang="el-GR" sz="32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 = 2*3* 500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3000(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см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 = </a:t>
            </a:r>
            <a:r>
              <a:rPr b="0" lang="el-GR" sz="32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² = 3*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00² = 3*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25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0000 =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750000 (см²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твет: С=3000см,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=750000c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м²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Прямоугольник 5"/>
          <p:cNvSpPr/>
          <p:nvPr/>
        </p:nvSpPr>
        <p:spPr>
          <a:xfrm>
            <a:off x="647640" y="3724200"/>
            <a:ext cx="2228760" cy="7146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Прямоугольник 6"/>
          <p:cNvSpPr/>
          <p:nvPr/>
        </p:nvSpPr>
        <p:spPr>
          <a:xfrm>
            <a:off x="2876400" y="3724200"/>
            <a:ext cx="2003400" cy="6984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Прямоугольник 7"/>
          <p:cNvSpPr/>
          <p:nvPr/>
        </p:nvSpPr>
        <p:spPr>
          <a:xfrm>
            <a:off x="4879800" y="3716280"/>
            <a:ext cx="1994040" cy="7146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Прямоугольник 8"/>
          <p:cNvSpPr/>
          <p:nvPr/>
        </p:nvSpPr>
        <p:spPr>
          <a:xfrm>
            <a:off x="647640" y="4410000"/>
            <a:ext cx="2154240" cy="47808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Прямоугольник 9"/>
          <p:cNvSpPr/>
          <p:nvPr/>
        </p:nvSpPr>
        <p:spPr>
          <a:xfrm>
            <a:off x="2801880" y="4422600"/>
            <a:ext cx="1763640" cy="46548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Прямоугольник 10"/>
          <p:cNvSpPr/>
          <p:nvPr/>
        </p:nvSpPr>
        <p:spPr>
          <a:xfrm>
            <a:off x="4565520" y="4430880"/>
            <a:ext cx="2308320" cy="4572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Прямоугольник 11"/>
          <p:cNvSpPr/>
          <p:nvPr/>
        </p:nvSpPr>
        <p:spPr>
          <a:xfrm>
            <a:off x="2293920" y="4900680"/>
            <a:ext cx="3076560" cy="46044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Прямоугольник 12"/>
          <p:cNvSpPr/>
          <p:nvPr/>
        </p:nvSpPr>
        <p:spPr>
          <a:xfrm>
            <a:off x="647640" y="5373720"/>
            <a:ext cx="6443640" cy="62856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3"/>
          <p:cNvSpPr/>
          <p:nvPr/>
        </p:nvSpPr>
        <p:spPr>
          <a:xfrm>
            <a:off x="307800" y="307800"/>
            <a:ext cx="6874200" cy="1554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Прямоугольник 1"/>
          <p:cNvSpPr/>
          <p:nvPr/>
        </p:nvSpPr>
        <p:spPr>
          <a:xfrm>
            <a:off x="561960" y="495360"/>
            <a:ext cx="63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ча 2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боковой поверхности колонны равна 150 м². Сколько потребуется краски, чтобы покрасить колонну, если на 1м² расходуется 200г краски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2" name="Picture 4" descr="Колонна ионическая из натурального камня — купить декор для отделки фасада"/>
          <p:cNvPicPr/>
          <p:nvPr/>
        </p:nvPicPr>
        <p:blipFill>
          <a:blip r:embed="rId1"/>
          <a:stretch/>
        </p:blipFill>
        <p:spPr>
          <a:xfrm>
            <a:off x="7404120" y="789120"/>
            <a:ext cx="2784600" cy="278604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4"/>
          <p:cNvSpPr/>
          <p:nvPr/>
        </p:nvSpPr>
        <p:spPr>
          <a:xfrm>
            <a:off x="647640" y="2443320"/>
            <a:ext cx="6443640" cy="3849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Решение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150 * 200 = 30000(г)= 30 (кг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твет: 30кг краски потребуетс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Прямоугольник 5"/>
          <p:cNvSpPr/>
          <p:nvPr/>
        </p:nvSpPr>
        <p:spPr>
          <a:xfrm>
            <a:off x="1063800" y="3765600"/>
            <a:ext cx="2228760" cy="71424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Прямоугольник 6"/>
          <p:cNvSpPr/>
          <p:nvPr/>
        </p:nvSpPr>
        <p:spPr>
          <a:xfrm>
            <a:off x="3249720" y="3773520"/>
            <a:ext cx="2003400" cy="6984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Прямоугольник 7"/>
          <p:cNvSpPr/>
          <p:nvPr/>
        </p:nvSpPr>
        <p:spPr>
          <a:xfrm>
            <a:off x="5229360" y="3765600"/>
            <a:ext cx="1420560" cy="71424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1779480" y="4762440"/>
            <a:ext cx="4346640" cy="120672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4"/>
          <p:cNvSpPr/>
          <p:nvPr/>
        </p:nvSpPr>
        <p:spPr>
          <a:xfrm>
            <a:off x="639720" y="1305000"/>
            <a:ext cx="6475320" cy="4938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1512720" y="349200"/>
            <a:ext cx="8620200" cy="64260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ЭТО ИНТЕРЕСНО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Легенды Александровской колонны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981000" y="1496880"/>
            <a:ext cx="5761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Трудно поверить, но поначалу горожане опасались приближаться к новому сооружению из-за боязни быть погребенными под его руинами. Такие слухи имели под собой некоторое основание: при установке фигуры ангела на вершине колонны поначалу планировалось само на вершие изготовить из гранита, но в последний момент гранит заменили обычной кирпичной кладкой. К тому же колонна не закреплена, а удерживается на основании под тяжестью своего веса. Оскорбленный недоверием публики Монферран ежедневно прогуливался рядом с колонной со своей собачкой, стремясь развеять пустые страхи обывателей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Рисунок 3" descr=""/>
          <p:cNvPicPr/>
          <p:nvPr/>
        </p:nvPicPr>
        <p:blipFill>
          <a:blip r:embed="rId1"/>
          <a:stretch/>
        </p:blipFill>
        <p:spPr>
          <a:xfrm>
            <a:off x="7176960" y="1797120"/>
            <a:ext cx="4572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3T17:13:33Z</dcterms:created>
  <dc:creator>RePack by Diakov</dc:creator>
  <dc:description/>
  <dc:language>en-US</dc:language>
  <cp:lastModifiedBy>RePack by Diakov</cp:lastModifiedBy>
  <dcterms:modified xsi:type="dcterms:W3CDTF">2021-11-04T10:50:14Z</dcterms:modified>
  <cp:revision>7</cp:revision>
  <dc:subject/>
  <dc:title>Презентация PowerPoint</dc:title>
</cp:coreProperties>
</file>