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ED4-9242-44D5-9A87-FE21636D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2D9-CFD4-475A-BE92-337FFA2F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EA0-FCC9-4570-8D4C-5FFD09AB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0E6-3C80-4603-9F16-8D7F6030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C022-1BBD-48D2-9843-59FDB1B8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99CC-DC0B-448C-B8C9-195DE160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05AF-58DB-4BDB-AF0F-4BDA9924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0815-B160-4AB9-A5A0-E9881A9A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7F4B-D539-40B7-BD9E-BEABD6C8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A45A-FC91-46DB-B635-F398A144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2B1A-91B5-4608-AE20-C738AA9C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808-E64F-46FA-9986-CE766F5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B678-1B0E-4C9B-AB7A-6F2C739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8B2A-C945-4106-BAD4-5FC1F7D3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1564-1C77-4E42-865D-C200FDD4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2EAA-F7AC-4E51-9601-30C9FAA2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8488-BE23-4B05-9773-946E3F3F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C0D0-A9A7-492D-B810-0123153A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BB8F-4F0D-40DD-A38F-1219F2B2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17C1-8D66-4881-B400-DAEAF015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842A-A5B8-41AC-88F4-127A6590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5C99-D28C-44CD-A5EA-F6D3C789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454-3AD3-46BA-99C5-28D49D48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273E-635B-4ABE-B23C-B62A153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BDB4-3B95-44AB-9C0B-170CCF98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DF57-F032-4E0E-B89D-63D061DF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A84D-14AF-4360-A013-223F915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6D8B-A764-42B0-B604-41C20594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5BBD1-8EA7-4C4F-B41F-61283104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54E1-4745-4256-A34C-F6A96D32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8D36-EF43-4F5E-B6DF-2D82E28D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DED4-589B-40DF-850E-EBA1229E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1974-4F78-4F1C-ABE9-30E05CB2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A59-37EF-4DA9-B583-AF1C1C0C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5F774-761D-4F00-8FE8-E8613EB8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BB010-55A2-45F6-9FD0-26632F6B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0A70-9A43-4408-B6AC-38B9488B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F090-52CF-4FD6-8475-F720E06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97934-94EA-4D33-A8E5-68E4E0BA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5AD9-F2AF-4154-B287-20E128D6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FAD3-934C-45B5-8847-295431DE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5166-700B-4612-BA7B-F342A5FC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3D05-644B-4D79-84A3-322397CC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051-DEDB-4AD5-816B-F739B70D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4D9-3C88-4829-804B-D7CC12DC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B89-DC3D-47F7-B134-D50D10EB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362-7F80-488F-BE7D-56C6994F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F46-600D-445C-8838-CC939EC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BC028-FCE0-4AC5-AA67-D6EFC11BE052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E965E-3C00-4C92-B8CD-A9F332455023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E9CF3-5242-4A55-BAD9-67DFE5124A16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3DC7E-36B6-4C69-B655-2CE4299C4721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7" descr=""/>
          <p:cNvPicPr/>
          <p:nvPr/>
        </p:nvPicPr>
        <p:blipFill>
          <a:blip r:embed="rId1"/>
          <a:stretch/>
        </p:blipFill>
        <p:spPr>
          <a:xfrm>
            <a:off x="946080" y="520560"/>
            <a:ext cx="2911680" cy="5889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705200" y="789120"/>
            <a:ext cx="678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Мастерская Самсона Суханов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2" descr="Vasily Tropinin 19.jpg"/>
          <p:cNvPicPr/>
          <p:nvPr/>
        </p:nvPicPr>
        <p:blipFill>
          <a:blip r:embed="rId2"/>
          <a:stretch/>
        </p:blipFill>
        <p:spPr>
          <a:xfrm>
            <a:off x="4378320" y="2795760"/>
            <a:ext cx="26100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int Isaac's Cathedral in SPB.jpeg"/>
          <p:cNvPicPr/>
          <p:nvPr/>
        </p:nvPicPr>
        <p:blipFill>
          <a:blip r:embed="rId3"/>
          <a:stretch/>
        </p:blipFill>
        <p:spPr>
          <a:xfrm>
            <a:off x="8096400" y="2795760"/>
            <a:ext cx="2609640" cy="1723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upload.wikimedia.org/wikipedia/commons/thumb/e/e5/%D0%A8%D0%B0%D1%80_%D0%A1%D1%82%D1%80%D0%B5%D0%BB%D0%BA%D0%B8_%D0%92.%D0%9E.jpg/175px-%D0%A8%D0%B0%D1%80_%D0%A1%D1%82%D1%80%D0%B5%D0%BB%D0%BA%D0%B8_%D0%92.%D0%9E.jpg"/>
          <p:cNvPicPr/>
          <p:nvPr/>
        </p:nvPicPr>
        <p:blipFill>
          <a:blip r:embed="rId4"/>
          <a:stretch/>
        </p:blipFill>
        <p:spPr>
          <a:xfrm>
            <a:off x="8096400" y="4668840"/>
            <a:ext cx="2609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углубление для основания колонны радиу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см. Число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. Какой длины и площади будет основание колонны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 = 2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 = 2*3* 500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000(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=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² = 3*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² = 3*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00 =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50000 (см²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С=3000см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=750000c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647640" y="3724200"/>
            <a:ext cx="222876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2876400" y="372420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879800" y="3716280"/>
            <a:ext cx="199404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47640" y="4410000"/>
            <a:ext cx="2154240" cy="4780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2801880" y="4422600"/>
            <a:ext cx="1763640" cy="4654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565520" y="4430880"/>
            <a:ext cx="2308320" cy="4572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2293920" y="4900680"/>
            <a:ext cx="3076560" cy="4604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647640" y="5373720"/>
            <a:ext cx="6443640" cy="62856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2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боковой поверхности колонны равна 150 м². Сколько потребуется краски, чтобы покрасить колонну, если на 1м² расходуется 200г краски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50 * 200 = 30000(г)= 30 (кг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30кг краски потребуетс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1063800" y="3765600"/>
            <a:ext cx="22287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3249720" y="377352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5229360" y="3765600"/>
            <a:ext cx="14205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79480" y="4762440"/>
            <a:ext cx="4346640" cy="120672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4"/>
          <p:cNvSpPr/>
          <p:nvPr/>
        </p:nvSpPr>
        <p:spPr>
          <a:xfrm>
            <a:off x="639720" y="1305000"/>
            <a:ext cx="6475320" cy="4938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1512720" y="349200"/>
            <a:ext cx="8620200" cy="642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егенды Александровской колонн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981000" y="149688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рудно поверить, но поначалу горожане опасались приближаться к новому сооружению из-за боязни быть погребенными под его руинами. Такие слухи имели под собой некоторое основание: при установке фигуры ангела на вершине колонны поначалу планировалось само на вершие изготовить из гранита, но в последний момент гранит заменили обычной кирпичной кладкой. К тому же колонна не закреплена, а удерживается на основании под тяжестью своего веса. Оскорбленный недоверием публики Монферран ежедневно прогуливался рядом с колонной со своей собачкой, стремясь развеять пустые страхи обывател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176960" y="179712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3T17:13:33Z</dcterms:created>
  <dc:creator>RePack by Diakov</dc:creator>
  <dc:description/>
  <dc:language>en-US</dc:language>
  <cp:lastModifiedBy>RePack by Diakov</cp:lastModifiedBy>
  <dcterms:modified xsi:type="dcterms:W3CDTF">2021-11-04T10:50:14Z</dcterms:modified>
  <cp:revision>7</cp:revision>
  <dc:subject/>
  <dc:title>Презентация PowerPoint</dc:title>
</cp:coreProperties>
</file>