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5DF-2915-4DCF-9382-56E98685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04E2-4F58-4B81-BB4B-2F5A2632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86B4-8AC0-46BA-A056-B2981AE8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5F8-A6A7-4282-BB42-219DD799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A881-4FB1-40CE-9EE0-7ABE0204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0E7F-F94C-4BAA-926B-452299C7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5773-952D-4852-A2A7-7B25D836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52F1-E208-44FE-A79E-39D8814B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5ABF-22A7-4CEE-B340-836405D0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6620-044F-4392-9B7D-4693E770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A716-36D9-439F-AD1D-4C7F8741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66C-F47D-4874-8691-9DF9886E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A517-9E08-4720-966B-4D696727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93A6-1AF2-4F51-A45D-21658D10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C07F-E3FB-46D4-9E3C-57DE54A5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17AD-7A8D-498B-88CC-2C078174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5D94-654F-4795-9D3D-FCAE8596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ABD63-D9E9-418D-B365-85291074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9F6CC-DEE2-4D84-ABCA-6E028B49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B85F7-9DF9-4D3C-8808-CDDD886B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295F3-06E4-4F4D-8534-2C380FDF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D470A-AE38-41FD-A98C-68FA3E6D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D2F-1B97-4D58-B0FB-0F394755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50F2-D660-4297-94E0-34AAA76D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E7B0C-E50F-4B84-B18A-F70D4AA6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C11AF-E5D3-4AD9-968B-6466E677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FEE0F-630A-4796-A964-79825ABE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3D479-2D0D-4EE4-B79B-6994A58A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55EA9-C897-427F-9E49-39BA4079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4788C-CE07-44C2-8698-D7062E0B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F8BD4-7451-47AE-9CC7-3963C5D4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66FD2-B5A9-4590-8036-355B4E1D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DB994-64E2-42A9-B85A-D1E33999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E6B-EB4F-45F8-8F4B-F8DF2CBA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097AD-7B3A-4C36-BBB3-6E45D8FA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583D1-C6FC-46D3-AAC5-0C7AB103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2D64B-1F6F-40B3-AC76-89568339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F16F2-B2FA-4AF9-A104-19D0323D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C0588-2A9C-463C-901B-BB0384B0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CA32F-C4E4-437C-9275-9E566E02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225A1-CE19-4E17-B530-CE95ECA7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B82FA-CCAE-4376-B5C3-DBB2F7FA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92FE0-81DF-47E9-A05B-D52E2A21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5A3-3294-4949-AFA1-C7B9ABBE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D92-3AB1-4556-AB04-88E47134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E89-07FF-432A-B3B2-E5544270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3828-1097-4546-BDD0-888E8E3D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F67-6FB3-44E7-87EB-05A2A97B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CF088-9F6A-4FD3-AD0A-C61717E7F1E1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4FAC8-A8F7-4107-9630-15B665B9679A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EDEA4-31E2-46AE-AA59-9D652F808AAE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F9BAA-9BEC-4401-8053-12D7DED456BB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7" descr=""/>
          <p:cNvPicPr/>
          <p:nvPr/>
        </p:nvPicPr>
        <p:blipFill>
          <a:blip r:embed="rId1"/>
          <a:stretch/>
        </p:blipFill>
        <p:spPr>
          <a:xfrm>
            <a:off x="946080" y="520560"/>
            <a:ext cx="2911680" cy="58896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8"/>
          <p:cNvSpPr/>
          <p:nvPr/>
        </p:nvSpPr>
        <p:spPr>
          <a:xfrm>
            <a:off x="4705200" y="789120"/>
            <a:ext cx="678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Мастерская Самсона Суханова.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3" name="Picture 2" descr="Vasily Tropinin 19.jpg"/>
          <p:cNvPicPr/>
          <p:nvPr/>
        </p:nvPicPr>
        <p:blipFill>
          <a:blip r:embed="rId2"/>
          <a:stretch/>
        </p:blipFill>
        <p:spPr>
          <a:xfrm>
            <a:off x="4378320" y="2795760"/>
            <a:ext cx="2610000" cy="3286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Saint Isaac's Cathedral in SPB.jpeg"/>
          <p:cNvPicPr/>
          <p:nvPr/>
        </p:nvPicPr>
        <p:blipFill>
          <a:blip r:embed="rId3"/>
          <a:stretch/>
        </p:blipFill>
        <p:spPr>
          <a:xfrm>
            <a:off x="8096400" y="2795760"/>
            <a:ext cx="2609640" cy="1723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https://upload.wikimedia.org/wikipedia/commons/thumb/e/e5/%D0%A8%D0%B0%D1%80_%D0%A1%D1%82%D1%80%D0%B5%D0%BB%D0%BA%D0%B8_%D0%92.%D0%9E.jpg/175px-%D0%A8%D0%B0%D1%80_%D0%A1%D1%82%D1%80%D0%B5%D0%BB%D0%BA%D0%B8_%D0%92.%D0%9E.jpg"/>
          <p:cNvPicPr/>
          <p:nvPr/>
        </p:nvPicPr>
        <p:blipFill>
          <a:blip r:embed="rId4"/>
          <a:stretch/>
        </p:blipFill>
        <p:spPr>
          <a:xfrm>
            <a:off x="8096400" y="4668840"/>
            <a:ext cx="26096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307800" y="307800"/>
            <a:ext cx="6874200" cy="1554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Прямоугольник 1"/>
          <p:cNvSpPr/>
          <p:nvPr/>
        </p:nvSpPr>
        <p:spPr>
          <a:xfrm>
            <a:off x="561960" y="495360"/>
            <a:ext cx="63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1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ся углубление для основания колонны радиус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см. Число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3. Какой длины и площади будет основание колонны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9" name="Picture 4" descr="Колонна ионическая из натурального камня — купить декор для отделки фасада"/>
          <p:cNvPicPr/>
          <p:nvPr/>
        </p:nvPicPr>
        <p:blipFill>
          <a:blip r:embed="rId1"/>
          <a:stretch/>
        </p:blipFill>
        <p:spPr>
          <a:xfrm>
            <a:off x="7404120" y="789120"/>
            <a:ext cx="2784600" cy="27860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4"/>
          <p:cNvSpPr/>
          <p:nvPr/>
        </p:nvSpPr>
        <p:spPr>
          <a:xfrm>
            <a:off x="647640" y="2443320"/>
            <a:ext cx="6443640" cy="3849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 = 2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 = 2*3* 500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3000(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м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 = 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² = 3*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00² = 3*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0000 =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750000 (см²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твет: С=3000см,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=750000c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м²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Прямоугольник 5"/>
          <p:cNvSpPr/>
          <p:nvPr/>
        </p:nvSpPr>
        <p:spPr>
          <a:xfrm>
            <a:off x="647640" y="3724200"/>
            <a:ext cx="2228760" cy="7146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Прямоугольник 6"/>
          <p:cNvSpPr/>
          <p:nvPr/>
        </p:nvSpPr>
        <p:spPr>
          <a:xfrm>
            <a:off x="2876400" y="3724200"/>
            <a:ext cx="2003400" cy="6984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4879800" y="3716280"/>
            <a:ext cx="1994040" cy="7146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647640" y="4410000"/>
            <a:ext cx="2154240" cy="47808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Прямоугольник 9"/>
          <p:cNvSpPr/>
          <p:nvPr/>
        </p:nvSpPr>
        <p:spPr>
          <a:xfrm>
            <a:off x="2801880" y="4422600"/>
            <a:ext cx="1763640" cy="46548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Прямоугольник 10"/>
          <p:cNvSpPr/>
          <p:nvPr/>
        </p:nvSpPr>
        <p:spPr>
          <a:xfrm>
            <a:off x="4565520" y="4430880"/>
            <a:ext cx="2308320" cy="4572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Прямоугольник 11"/>
          <p:cNvSpPr/>
          <p:nvPr/>
        </p:nvSpPr>
        <p:spPr>
          <a:xfrm>
            <a:off x="2293920" y="4900680"/>
            <a:ext cx="3076560" cy="4604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Прямоугольник 12"/>
          <p:cNvSpPr/>
          <p:nvPr/>
        </p:nvSpPr>
        <p:spPr>
          <a:xfrm>
            <a:off x="647640" y="5373720"/>
            <a:ext cx="6443640" cy="62856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3"/>
          <p:cNvSpPr/>
          <p:nvPr/>
        </p:nvSpPr>
        <p:spPr>
          <a:xfrm>
            <a:off x="307800" y="307800"/>
            <a:ext cx="6874200" cy="1554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561960" y="495360"/>
            <a:ext cx="63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2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боковой поверхности колонны равна 150 м². Сколько потребуется краски, чтобы покрасить колонну, если на 1м² расходуется 200г краски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2" name="Picture 4" descr="Колонна ионическая из натурального камня — купить декор для отделки фасада"/>
          <p:cNvPicPr/>
          <p:nvPr/>
        </p:nvPicPr>
        <p:blipFill>
          <a:blip r:embed="rId1"/>
          <a:stretch/>
        </p:blipFill>
        <p:spPr>
          <a:xfrm>
            <a:off x="7404120" y="789120"/>
            <a:ext cx="2784600" cy="278604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4"/>
          <p:cNvSpPr/>
          <p:nvPr/>
        </p:nvSpPr>
        <p:spPr>
          <a:xfrm>
            <a:off x="647640" y="2443320"/>
            <a:ext cx="6443640" cy="3849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50 * 200 = 30000(г)= 30 (кг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твет: 30кг краски потребуетс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1063800" y="3765600"/>
            <a:ext cx="2228760" cy="7142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Прямоугольник 6"/>
          <p:cNvSpPr/>
          <p:nvPr/>
        </p:nvSpPr>
        <p:spPr>
          <a:xfrm>
            <a:off x="3249720" y="3773520"/>
            <a:ext cx="2003400" cy="6984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5229360" y="3765600"/>
            <a:ext cx="1420560" cy="7142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1779480" y="4762440"/>
            <a:ext cx="4346640" cy="120672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4"/>
          <p:cNvSpPr/>
          <p:nvPr/>
        </p:nvSpPr>
        <p:spPr>
          <a:xfrm>
            <a:off x="639720" y="1305000"/>
            <a:ext cx="6475320" cy="4938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1512720" y="349200"/>
            <a:ext cx="8620200" cy="6426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Легенды Александровской колонны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981000" y="1496880"/>
            <a:ext cx="576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Трудно поверить, но поначалу горожане опасались приближаться к новому сооружению из-за боязни быть погребенными под его руинами. Такие слухи имели под собой некоторое основание: при установке фигуры ангела на вершине колонны поначалу планировалось само на вершие изготовить из гранита, но в последний момент гранит заменили обычной кирпичной кладкой. К тому же колонна не закреплена, а удерживается на основании под тяжестью своего веса. Оскорбленный недоверием публики Монферран ежедневно прогуливался рядом с колонной со своей собачкой, стремясь развеять пустые страхи обывателей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Рисунок 3" descr=""/>
          <p:cNvPicPr/>
          <p:nvPr/>
        </p:nvPicPr>
        <p:blipFill>
          <a:blip r:embed="rId1"/>
          <a:stretch/>
        </p:blipFill>
        <p:spPr>
          <a:xfrm>
            <a:off x="7176960" y="179712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3T17:13:33Z</dcterms:created>
  <dc:creator>RePack by Diakov</dc:creator>
  <dc:description/>
  <dc:language>en-US</dc:language>
  <cp:lastModifiedBy>RePack by Diakov</cp:lastModifiedBy>
  <dcterms:modified xsi:type="dcterms:W3CDTF">2021-11-04T10:50:14Z</dcterms:modified>
  <cp:revision>7</cp:revision>
  <dc:subject/>
  <dc:title>Презентация PowerPoint</dc:title>
</cp:coreProperties>
</file>